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camera.wav" ContentType="audio/x-wav"/>
  <Override PartName="/ppt/media/image7.jpeg" ContentType="image/jpeg"/>
  <Override PartName="/ppt/media/image6.jpeg" ContentType="image/jpeg"/>
  <Override PartName="/ppt/media/carbrake.wav" ContentType="audio/x-wav"/>
  <Override PartName="/ppt/media/image8.jpeg" ContentType="image/jpe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2AC-D735-4205-8024-FB698764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E61-A7BA-4C16-97E0-0AF734D3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8AE-0A67-4EDB-8502-0E65FE8F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03D-CF8E-416D-83F5-905E3B23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F7AD-5976-4EB6-873F-1B1E4CFC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79F-131F-4E91-B49F-7DB1F54D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4A5B-4A27-4928-95AA-3D18883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F7E5-DE00-40F4-834C-37689D40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E2D-63A3-4563-8296-E81C69F4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C50E-17E2-47B3-A49D-F98B6FDF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21EA-698E-4701-9D3C-0E0E380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6F0-B164-4636-B178-D0297AAA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3142-5374-47A2-A0CF-558DBC4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B707-6863-41E3-AACB-D1D4531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C777-303A-43D6-B571-5B18F06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1D5-ABC9-43F9-8703-8F7DD395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1743-C26D-446B-84C5-32441A8D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7A4-7DD8-45C6-8E3D-30AFDA9A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3B2-ED00-4A3E-88F4-FBB96B3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6E6-ED73-4E46-B4DD-785290FB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4E1-7B0F-472B-B283-1556109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9D7-2274-45BA-976A-8B09D57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364-6519-4296-8AB9-61CC022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F44-1053-4463-B5D6-FBB7655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1170-1609-403C-AA7F-C66CF39B0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3ADF-9C73-4204-B4E5-E3C596D37B5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Vasco-da-gama-2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ldermania.com/interactive/data/Programs/20080916/home_buying/images/smileys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aldermania.com/interactive/data/Programs/20080916/home_buying/images/smileys.jpg" TargetMode="External"/><Relationship Id="rId6" Type="http://schemas.openxmlformats.org/officeDocument/2006/relationships/image" Target="../media/image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ng.com/images/search?q=Pile+Of+Gold+Coins" TargetMode="External"/><Relationship Id="rId3" Type="http://schemas.openxmlformats.org/officeDocument/2006/relationships/hyperlink" Target="http://www.bing.com/images/search?q=Pile+Of+Gold+Coins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VASCO DE GAM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4760" y="525780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By: Vallie Etien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2" descr="http://upload.wikimedia.org/wikipedia/commons/thumb/5/50/Vasco-da-gama-2.jpg/225px-Vasco-da-gama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676520"/>
            <a:ext cx="2438640" cy="30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76212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76212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Fun Facts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e Gama was one of the first Europeans to take a journey by se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Vasco De Gama was actually very harsh in his methods of leading a cre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t, he had a reputation of always succeeding at what he started, one way or another.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5" descr="http://www.keralacafe.com/all_about_kerala/images/image4.jpg"/>
          <p:cNvPicPr/>
          <p:nvPr/>
        </p:nvPicPr>
        <p:blipFill>
          <a:blip r:embed="rId1"/>
          <a:stretch/>
        </p:blipFill>
        <p:spPr>
          <a:xfrm>
            <a:off x="2819520" y="4038480"/>
            <a:ext cx="3429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Citations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Ames, Glenn. "http://en.wikipedia.org/wiki/Vasco_da_Gama." </a:t>
            </a: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Wikipedia</a:t>
            </a: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. 2004. Wikimedia Foundations, Web. 6 Oct 2009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4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Vasco da Gama." Encyclopedia Britannica. 2009. Encyclopedia Britannica Online. 06 Oct. 2009 &lt;http://www.Britannica.com/EBchecked/topic/224711/Vasco-da-Gama&gt;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4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"http://library.thinkquest.org/4034/dagama.html." </a:t>
            </a:r>
            <a:r>
              <a:rPr b="0" i="1" lang="en-US" sz="1400" spc="-1" strike="noStrike">
                <a:solidFill>
                  <a:srgbClr val="ffffcc"/>
                </a:solidFill>
                <a:latin typeface="Verdana"/>
              </a:rPr>
              <a:t>Explorers of the Millennium</a:t>
            </a: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. 2004. Web. 7 Oct 2009. &lt;http://library.thinkquest.org/4034/dagama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200000"/>
              </a:lnSpc>
              <a:spcBef>
                <a:spcPts val="34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"Vasco da Gama." </a:t>
            </a:r>
            <a:r>
              <a:rPr b="1" lang="en-US" sz="1400" spc="-1" strike="noStrike" u="sng">
                <a:solidFill>
                  <a:srgbClr val="ffffcc"/>
                </a:solidFill>
                <a:uFillTx/>
                <a:latin typeface="Verdana"/>
              </a:rPr>
              <a:t>The Columbia Encyclopedia, Sixth Edition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. 2008. </a:t>
            </a:r>
            <a:r>
              <a:rPr b="1" i="1" lang="en-US" sz="1400" spc="-1" strike="noStrike">
                <a:solidFill>
                  <a:srgbClr val="ffffcc"/>
                </a:solidFill>
                <a:latin typeface="Verdana"/>
              </a:rPr>
              <a:t>Encyclopedia.com.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7 Oct. 2009 &lt;http://www.encyclopedia.com&gt;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75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75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75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*~More Citations..~*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Hartig, Otto. "Vasco da Gama." The Catholic Encyclopedia. Vol. 6. New York: Robert Appleton Company, 1909. 7 Oct. 2009 &lt;http://www.newadvent.org/cathen/06374a.htm&gt;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ere’s some background info.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Vasco de Gama was born on 1460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died on  December 24, 1524, making him 54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a Portuguese explore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the governor of Portugal with the title of Viceroy (a high ranking officia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The Republic of Venice had taken control of the trade routes involving Europe and Asia. Portugal wanted to used the trade routes of Bartolomeu Dias to cut Venice off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First Voyage: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is first Voyage was on July 8, 149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accompanied by 170 men and a fleet of four ship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ão Rafael” was the name of his ship. It weight 178 tons, was 27 meters long, and 8.5 meters wid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set sail from Lisbon and landed in the Cape of Good Hop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First Voyage (cont.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e was looking for riches to bring back to his ruler, but there were n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The natives were getting suspicious, so they forced him out of their lan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In conclusion, this trip was unsuccessfu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5">
            <a:hlinkClick r:id="rId2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9" descr="Pile of Gold Co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4038480"/>
            <a:ext cx="37339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A Map of De Gama’s First Voyage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2" descr="http://wpcontent.answers.com/wikipedia/commons/thumb/7/75/Gama_route_1.svg/300px-Gama_route_1.svg.png"/>
          <p:cNvPicPr/>
          <p:nvPr/>
        </p:nvPicPr>
        <p:blipFill>
          <a:blip r:embed="rId1"/>
          <a:stretch/>
        </p:blipFill>
        <p:spPr>
          <a:xfrm>
            <a:off x="2052720" y="1981080"/>
            <a:ext cx="503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Second Voyage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He had made this trip to make use of the favorable winds around the ocea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On February 12, 1502, De Gama sailed with a fleet of twenty warships with the mindset of enforcing Portuguese interests in the eas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fter arriving in Calicut, the native gave him trouble, so he attacked them and moved 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Second Voyage~*(cont.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His next stop was Cochin, where the people were warm and friendl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fter this trip, he returned to Europe with gold and silk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Later on, once he had reached the Indian Ocean, De Gama waited for a ship to return from Mecca and stole all the valuables on it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When De Gama re-arrived to Calicut on October 30, 1502 the Zamorin was willing to sign a treat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fter reviewing said treaty, he destroyed a Calicut flee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His Third, and last, Voyage.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Vasco De Gama had earned himself the title of “fixer of problems” that started in Indi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e Gama was sent to the subcontinent once more time in 1524. (the purpose was that he was supposed to replace Eduardo de Menses as viceroy (representative) of the Portuguese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adly, De Gama caught malaria not long after arriving in Goa and died in Cochin on Christmas Eve in 1524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1029" descr="Mosquito Ringtones - The ..."/>
          <p:cNvPicPr/>
          <p:nvPr/>
        </p:nvPicPr>
        <p:blipFill>
          <a:blip r:embed="rId1"/>
          <a:stretch/>
        </p:blipFill>
        <p:spPr>
          <a:xfrm>
            <a:off x="3505320" y="4495680"/>
            <a:ext cx="1679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*~Fun Facts~*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São Rafael” (the boat that De Gama used on his first voyage) was burned because most of his crew members had scurvy and die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n 1539, his remains, which up to that time had lain in the Franciscan church there, were brought to Portugal and interred at Vidigueira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Contrarily to his very much unappealing personality, he had a wife and children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1029" descr="Madden's Old Ship"/>
          <p:cNvPicPr/>
          <p:nvPr/>
        </p:nvPicPr>
        <p:blipFill>
          <a:blip r:embed="rId1"/>
          <a:stretch/>
        </p:blipFill>
        <p:spPr>
          <a:xfrm>
            <a:off x="3429000" y="3962520"/>
            <a:ext cx="2041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0:18:32Z</dcterms:created>
  <dc:creator>getienne</dc:creator>
  <dc:description/>
  <dc:language>en-US</dc:language>
  <cp:lastModifiedBy>user</cp:lastModifiedBy>
  <dcterms:modified xsi:type="dcterms:W3CDTF">2009-10-09T12:31:58Z</dcterms:modified>
  <cp:revision>12</cp:revision>
  <dc:subject/>
  <dc:title>VASCO DE GAMA &amp;&amp; ANTONIO VIVALDI =)</dc:title>
</cp:coreProperties>
</file>